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573D-0033-4B20-B417-32DB3E0D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C4F4-A1D4-4AF5-A01A-8054B56B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85A8-3E2E-43D1-87FF-B620BCC0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6610-CFE4-4ED3-B4A1-0B960D1A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F4D0-3886-4B01-AAB5-572FA718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DAA1-1DFF-47B4-9289-FEC92F50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3FF9-A7D8-4CC3-9376-B1116E8C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8756-1A79-4706-8F67-94261697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987A-0190-4325-906B-F6E7BB1E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A574-3920-4C5D-BC87-3137DCCD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4E5A-BF46-4FAD-981D-F804FCA8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944D-7ECF-42B9-A3C2-ACF21AB9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D8C3-30F7-476A-A516-2D58A7E8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DB08-8CCE-47A9-B425-4B6F2003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2367-C489-43EA-ABB4-1E06466D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FED2-2A83-4C13-BD74-CCA2AAA5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C600-C01C-4DBC-AA32-BF81DB25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4523-CA97-41FD-B54A-BF77CA00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D2D5-7A83-403F-93D8-8BBF1181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1A57-A402-4D5A-8FCC-26B7671D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714D-DA0C-4A01-B02D-F61C52EB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1F63-A635-4993-BAC0-0FDC087C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F632-DBB5-4414-931E-7759D694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20B8-B144-4042-9965-A2B5E5A3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3CBC-8E3A-4160-B268-B9AF31010F2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AE59-BB16-4797-B8C5-0D7D6A70280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Kelj fel, lelkem, énekel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Urunk dicséretét!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Szólj őróla, dalra gyúlva, magasztald nevét!</a:t>
            </a:r>
            <a:br>
              <a:rPr sz="5400"/>
            </a:b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Üdvösségem, békességem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és reménységem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Alkotóm vagy, támaszom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benned bízik lelkem.</a:t>
            </a:r>
            <a:br>
              <a:rPr sz="4800"/>
            </a:br>
            <a:br>
              <a:rPr sz="4800"/>
            </a:b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igh Tower Text"/>
                <a:ea typeface="Gulim"/>
              </a:rPr>
              <a:t>Uram, hálát adok neked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High Tower Text"/>
                <a:ea typeface="Gulim"/>
              </a:rPr>
              <a:t>kinyújtottad kezed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High Tower Text"/>
                <a:ea typeface="Gulim"/>
              </a:rPr>
              <a:t>és megragadtál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High Tower Text"/>
                <a:ea typeface="Gulim"/>
              </a:rPr>
              <a:t>és magadhoz vontál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High Tower Text"/>
                <a:ea typeface="Gulim"/>
              </a:rPr>
              <a:t>bennem élsz és boldoggá teszel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High Tower Text"/>
                <a:ea typeface="Gulim"/>
              </a:rPr>
              <a:t>betöltesz tüzeddel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High Tower Text"/>
                <a:ea typeface="Gulim"/>
              </a:rPr>
              <a:t>hogy veled éljek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High Tower Text"/>
                <a:ea typeface="Gulim"/>
              </a:rPr>
              <a:t>és uralkodjak örökké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High Tower Text"/>
                <a:ea typeface="Gulim"/>
              </a:rPr>
              <a:t>és lássam arcod örökké.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604360" y="260280"/>
            <a:ext cx="215640" cy="216000"/>
          </a:xfrm>
          <a:prstGeom prst="smileyFace">
            <a:avLst>
              <a:gd name="adj" fmla="val 9282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8T18:34:58Z</dcterms:created>
  <dc:creator>Gyügyei Tamás</dc:creator>
  <dc:description/>
  <dc:language>en-US</dc:language>
  <cp:lastModifiedBy>Gyügyei Tamás</cp:lastModifiedBy>
  <dcterms:modified xsi:type="dcterms:W3CDTF">2005-10-16T05:27:46Z</dcterms:modified>
  <cp:revision>6</cp:revision>
  <dc:subject/>
  <dc:title>PowerPoint bemutató</dc:title>
</cp:coreProperties>
</file>